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png" ContentType="image/png"/>
  <Override PartName="/ppt/media/projctor.wav" ContentType="audio/x-wav"/>
  <Override PartName="/ppt/media/image24.jpeg" ContentType="image/jpeg"/>
  <Override PartName="/ppt/media/camera.wav" ContentType="audio/x-wav"/>
  <Override PartName="/ppt/media/image21.png" ContentType="image/png"/>
  <Override PartName="/ppt/media/clap.wav" ContentType="audio/x-wav"/>
  <Override PartName="/ppt/media/image19.png" ContentType="image/png"/>
  <Override PartName="/ppt/media/image14.jpeg" ContentType="image/jpeg"/>
  <Override PartName="/ppt/media/image16.png" ContentType="image/png"/>
  <Override PartName="/ppt/media/image13.gif" ContentType="image/gif"/>
  <Override PartName="/ppt/media/image11.png" ContentType="image/png"/>
  <Override PartName="/ppt/media/image15.png" ContentType="image/png"/>
  <Override PartName="/ppt/media/image12.gif" ContentType="image/gif"/>
  <Override PartName="/ppt/media/carbrake.wav" ContentType="audio/x-wav"/>
  <Override PartName="/ppt/media/drumroll.wav" ContentType="audio/x-wav"/>
  <Override PartName="/ppt/media/whoosh.wav" ContentType="audio/x-wav"/>
  <Override PartName="/ppt/media/image25.png" ContentType="image/png"/>
  <Override PartName="/ppt/media/image4.jpeg" ContentType="image/jpeg"/>
  <Override PartName="/ppt/media/image17.png" ContentType="image/png"/>
  <Override PartName="/ppt/media/image27.jpeg" ContentType="image/jpeg"/>
  <Override PartName="/ppt/media/image10.png" ContentType="image/png"/>
  <Override PartName="/ppt/media/image31.pct" ContentType="image/x-pict"/>
  <Override PartName="/ppt/media/image34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8.gif" ContentType="image/gif"/>
  <Override PartName="/ppt/media/image37.jpeg" ContentType="image/jpeg"/>
  <Override PartName="/ppt/media/image26.png" ContentType="image/png"/>
  <Override PartName="/ppt/media/image38.png" ContentType="image/png"/>
  <Override PartName="/ppt/media/image39.jpeg" ContentType="image/jpeg"/>
  <Override PartName="/ppt/media/image40.pct" ContentType="image/x-pict"/>
  <Override PartName="/ppt/media/image28.png" ContentType="image/png"/>
  <Override PartName="/ppt/media/image7.jpeg" ContentType="image/jpeg"/>
  <Override PartName="/ppt/media/image20.png" ContentType="image/png"/>
  <Override PartName="/ppt/media/type.wav" ContentType="audio/x-wav"/>
  <Override PartName="/ppt/media/image6.jpeg" ContentType="image/jpeg"/>
  <Override PartName="/ppt/media/image18.png" ContentType="image/png"/>
  <Override PartName="/ppt/media/image29.pct" ContentType="image/x-pict"/>
  <Override PartName="/ppt/media/image9.gif" ContentType="image/gif"/>
  <Override PartName="/ppt/media/laser.wav" ContentType="audio/x-wav"/>
  <Override PartName="/ppt/media/image1.gif" ContentType="image/gif"/>
  <Override PartName="/ppt/media/image2.png" ContentType="image/png"/>
  <Override PartName="/ppt/media/image32.png" ContentType="image/png"/>
  <Override PartName="/ppt/media/image3.png" ContentType="image/png"/>
  <Override PartName="/ppt/media/image30.pct" ContentType="image/x-pict"/>
  <Override PartName="/ppt/media/image3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A08-6D9C-4BD9-92C9-24397CA0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8DD-4336-4919-BB65-2360F2E3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729-BEF9-466F-A0EA-7C2F3842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E1D-3916-4685-A7DA-F10F0739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F759-C23D-426B-8027-E5E811BB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7A30-CBBF-4FF2-9994-1E46412D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3A56-CF7A-4CFC-8366-79710313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F276-F63B-4E20-B7FB-3D1C8E18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CA7D-DD6C-4BB6-8447-B292CA0B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6CE6-4D39-4088-92EE-085847E4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EAAD-023A-4B59-A40B-79E652E5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437-04CE-4C6A-AA6E-509E90A6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674B-2604-4F16-8C5D-F012FAA8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574C-3D34-435B-8BF1-6674973F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CC65-0802-4F80-A0B1-DAB5C3BC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6F84-FB5F-48B3-917B-908A3ABF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4A58-1C4C-4365-A3D1-A214D282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72E-C677-44B7-A7D6-97F1EB2C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2E3-30AE-4ED2-8F83-B6CCA80F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D8B-C7F2-4698-96BA-7EA05438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F055-A319-48F2-B90A-CD4D8A13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E4A-A6F0-4B6D-A88C-5D2AEA87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30DC-4E63-4E4D-A196-659D6FEF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410-995C-4EDD-B951-6DA5AA78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37CB-F52F-436E-BE29-DAF4A0285D0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2D79-1E90-4EE2-A371-5DC6CC3FD3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8295-4DE9-46AE-B5FA-8DE608E234F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50F2-5A74-4B1C-9826-4B309E2709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rl.org/formats/gifs/division.gif" TargetMode="External"/><Relationship Id="rId2" Type="http://schemas.openxmlformats.org/officeDocument/2006/relationships/image" Target="../media/image19.png"/><Relationship Id="rId3" Type="http://schemas.openxmlformats.org/officeDocument/2006/relationships/audio" Target="../media/whoosh.wav"/><Relationship Id="rId4" Type="http://schemas.openxmlformats.org/officeDocument/2006/relationships/audio" Target="../media/laser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ct"/><Relationship Id="rId3" Type="http://schemas.openxmlformats.org/officeDocument/2006/relationships/image" Target="../media/image30.pct"/><Relationship Id="rId4" Type="http://schemas.openxmlformats.org/officeDocument/2006/relationships/image" Target="../media/image31.pct"/><Relationship Id="rId5" Type="http://schemas.openxmlformats.org/officeDocument/2006/relationships/image" Target="../media/image32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33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34.png"/><Relationship Id="rId37" Type="http://schemas.openxmlformats.org/officeDocument/2006/relationships/image" Target="../media/image18.png"/><Relationship Id="rId38" Type="http://schemas.openxmlformats.org/officeDocument/2006/relationships/image" Target="../media/image18.png"/><Relationship Id="rId39" Type="http://schemas.openxmlformats.org/officeDocument/2006/relationships/image" Target="../media/image18.png"/><Relationship Id="rId40" Type="http://schemas.openxmlformats.org/officeDocument/2006/relationships/image" Target="../media/image18.png"/><Relationship Id="rId41" Type="http://schemas.openxmlformats.org/officeDocument/2006/relationships/image" Target="../media/image18.png"/><Relationship Id="rId42" Type="http://schemas.openxmlformats.org/officeDocument/2006/relationships/image" Target="../media/image18.png"/><Relationship Id="rId43" Type="http://schemas.openxmlformats.org/officeDocument/2006/relationships/image" Target="../media/image18.png"/><Relationship Id="rId44" Type="http://schemas.openxmlformats.org/officeDocument/2006/relationships/image" Target="../media/image18.png"/><Relationship Id="rId45" Type="http://schemas.openxmlformats.org/officeDocument/2006/relationships/image" Target="../media/image18.png"/><Relationship Id="rId46" Type="http://schemas.openxmlformats.org/officeDocument/2006/relationships/image" Target="../media/image35.png"/><Relationship Id="rId47" Type="http://schemas.openxmlformats.org/officeDocument/2006/relationships/image" Target="../media/image35.png"/><Relationship Id="rId48" Type="http://schemas.openxmlformats.org/officeDocument/2006/relationships/image" Target="../media/image18.png"/><Relationship Id="rId49" Type="http://schemas.openxmlformats.org/officeDocument/2006/relationships/image" Target="../media/image18.png"/><Relationship Id="rId50" Type="http://schemas.openxmlformats.org/officeDocument/2006/relationships/image" Target="../media/image36.png"/><Relationship Id="rId51" Type="http://schemas.openxmlformats.org/officeDocument/2006/relationships/audio" Target="../media/whoosh.wav"/><Relationship Id="rId5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ct"/><Relationship Id="rId3" Type="http://schemas.openxmlformats.org/officeDocument/2006/relationships/audio" Target="../media/clap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audio" Target="../media/projctor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audio" Target="../media/laser.wav"/><Relationship Id="rId4" Type="http://schemas.openxmlformats.org/officeDocument/2006/relationships/audio" Target="../media/whoosh.wav"/><Relationship Id="rId5" Type="http://schemas.openxmlformats.org/officeDocument/2006/relationships/audio" Target="../media/laser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90512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00"/>
                </a:solidFill>
                <a:latin typeface="Arial Narrow"/>
              </a:rPr>
              <a:t>MUSCLES</a:t>
            </a:r>
            <a:endParaRPr b="1" lang="en-US" sz="12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43200" y="3276720"/>
            <a:ext cx="3352680" cy="2395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978-EA8E-493D-BA14-DFCE8E3171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9747A-6E67-484F-990C-05C9BD10A2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79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Smile or Frown?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2057400"/>
            <a:ext cx="6705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takes 17 muscles to smile and 43 muscles to fr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takes 26 muscles to smile and 62 muscles to fr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54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36680" y="2544840"/>
            <a:ext cx="4670280" cy="1768320"/>
            <a:chOff x="2236680" y="2544840"/>
            <a:chExt cx="4670280" cy="1768320"/>
          </a:xfrm>
        </p:grpSpPr>
        <p:sp>
          <p:nvSpPr>
            <p:cNvPr id="141" name=""/>
            <p:cNvSpPr/>
            <p:nvPr/>
          </p:nvSpPr>
          <p:spPr>
            <a:xfrm>
              <a:off x="2236680" y="2544840"/>
              <a:ext cx="4670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36680" y="2544840"/>
              <a:ext cx="4500720" cy="17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8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36680" y="2620800"/>
            <a:ext cx="4670280" cy="1616040"/>
            <a:chOff x="2236680" y="2620800"/>
            <a:chExt cx="4670280" cy="1616040"/>
          </a:xfrm>
        </p:grpSpPr>
        <p:sp>
          <p:nvSpPr>
            <p:cNvPr id="145" name=""/>
            <p:cNvSpPr/>
            <p:nvPr/>
          </p:nvSpPr>
          <p:spPr>
            <a:xfrm>
              <a:off x="2236680" y="2620800"/>
              <a:ext cx="4670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36680" y="2620800"/>
              <a:ext cx="45007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en-US" sz="8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          </a:t>
              </a: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43800" y="3808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5800" y="5029200"/>
            <a:ext cx="746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What conclusion can we make from these two statement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1295280" cy="128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6076-C6C9-4508-A5E4-7426D0AFC23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853D588-FC1C-426E-B21E-0CB054C109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 Narrow"/>
              </a:rPr>
              <a:t>What are muscles made of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20574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0" r="-868" b="48247"/>
          <a:stretch/>
        </p:blipFill>
        <p:spPr>
          <a:xfrm>
            <a:off x="2362320" y="2666880"/>
            <a:ext cx="5029200" cy="3451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38080" y="129528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uscles are made of hundreds of tiny fibe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F26-FD16-49FD-BC76-E3C4CE30A37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56F3F-D2BF-4E34-B572-DDD2782E8544}" type="datetime1">
              <a:rPr lang="en-US"/>
              <a:t>07/31/26</a:t>
            </a:fld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 Narrow"/>
              </a:rPr>
              <a:t>Can you feel some of your muscles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ld a book in front of you. Where in your arm do you feel the muscles mo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281952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ve your neck from left to right and up and down. What do you fe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96252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Move your fingers around. Where do you feel those muscles mov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510552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nd on your toes. Do you feel the muscles in the back of your leg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8F0-71B9-40B4-884C-270A081A42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CFEED-AFB1-416D-A048-041FDF887C18}" type="datetime1">
              <a:rPr lang="en-US"/>
              <a:t>07/31/26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Arial Narrow"/>
              </a:rPr>
              <a:t>Muscles</a:t>
            </a: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, </a:t>
            </a:r>
            <a:r>
              <a:rPr b="1" lang="en-US" sz="5000" spc="-1" strike="noStrike">
                <a:solidFill>
                  <a:srgbClr val="ffffcc"/>
                </a:solidFill>
                <a:latin typeface="Arial Narrow"/>
              </a:rPr>
              <a:t>Muscles,</a:t>
            </a: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Muscles</a:t>
            </a: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14580" t="32817" r="12502" b="10939"/>
          <a:stretch/>
        </p:blipFill>
        <p:spPr>
          <a:xfrm>
            <a:off x="1295280" y="2590920"/>
            <a:ext cx="2667240" cy="274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14580" t="29621" r="10977" b="42257"/>
          <a:stretch/>
        </p:blipFill>
        <p:spPr>
          <a:xfrm>
            <a:off x="4724280" y="2133720"/>
            <a:ext cx="2722680" cy="1371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rcRect l="18754" t="32750" r="6251" b="25066"/>
          <a:stretch/>
        </p:blipFill>
        <p:spPr>
          <a:xfrm>
            <a:off x="5943600" y="4114800"/>
            <a:ext cx="27432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-1327320" y="2182680"/>
            <a:ext cx="11798280" cy="2438280"/>
            <a:chOff x="-1327320" y="2182680"/>
            <a:chExt cx="11798280" cy="2438280"/>
          </a:xfrm>
        </p:grpSpPr>
        <p:sp>
          <p:nvSpPr>
            <p:cNvPr id="164" name=""/>
            <p:cNvSpPr/>
            <p:nvPr/>
          </p:nvSpPr>
          <p:spPr>
            <a:xfrm>
              <a:off x="-1327320" y="2182680"/>
              <a:ext cx="3946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-1327320" y="2182680"/>
              <a:ext cx="117982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5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-1327320" y="2182680"/>
            <a:ext cx="11798280" cy="2438280"/>
            <a:chOff x="-1327320" y="2182680"/>
            <a:chExt cx="11798280" cy="2438280"/>
          </a:xfrm>
        </p:grpSpPr>
        <p:sp>
          <p:nvSpPr>
            <p:cNvPr id="167" name=""/>
            <p:cNvSpPr/>
            <p:nvPr/>
          </p:nvSpPr>
          <p:spPr>
            <a:xfrm>
              <a:off x="-1327320" y="2182680"/>
              <a:ext cx="3946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-1327320" y="2182680"/>
              <a:ext cx="117982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5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-1327320" y="2182680"/>
            <a:ext cx="11798280" cy="2438280"/>
            <a:chOff x="-1327320" y="2182680"/>
            <a:chExt cx="11798280" cy="2438280"/>
          </a:xfrm>
        </p:grpSpPr>
        <p:sp>
          <p:nvSpPr>
            <p:cNvPr id="170" name=""/>
            <p:cNvSpPr/>
            <p:nvPr/>
          </p:nvSpPr>
          <p:spPr>
            <a:xfrm>
              <a:off x="-1327320" y="2182680"/>
              <a:ext cx="3946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27320" y="2182680"/>
              <a:ext cx="117982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5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-1325520" y="2182680"/>
            <a:ext cx="11796840" cy="2438280"/>
            <a:chOff x="-1325520" y="2182680"/>
            <a:chExt cx="11796840" cy="2438280"/>
          </a:xfrm>
        </p:grpSpPr>
        <p:sp>
          <p:nvSpPr>
            <p:cNvPr id="173" name=""/>
            <p:cNvSpPr/>
            <p:nvPr/>
          </p:nvSpPr>
          <p:spPr>
            <a:xfrm>
              <a:off x="-1325520" y="2182680"/>
              <a:ext cx="3946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-1325520" y="2182680"/>
              <a:ext cx="11796840" cy="2438280"/>
              <a:chOff x="-1325520" y="2182680"/>
              <a:chExt cx="11796840" cy="2438280"/>
            </a:xfrm>
          </p:grpSpPr>
          <p:sp>
            <p:nvSpPr>
              <p:cNvPr id="175" name=""/>
              <p:cNvSpPr/>
              <p:nvPr/>
            </p:nvSpPr>
            <p:spPr>
              <a:xfrm>
                <a:off x="-1325520" y="2182680"/>
                <a:ext cx="2052720" cy="24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endParaRPr b="0" lang="en-US" sz="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27200" y="2182680"/>
                <a:ext cx="9744120" cy="24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-1125360" y="2228760"/>
            <a:ext cx="114120" cy="1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593E-E4BD-4186-B914-0F9990C7CBE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88CD0CF-6863-4DE7-89C9-4B7D00331C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at do muscles need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7239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Muscles need oxygen in order to work properl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When they do not get enough oxygen, they can get sore or cramp up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When the muscles in your heart do not get enough oxygen, you can have a heart atta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9381-0920-4CE3-844F-8F8A485413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7C2A2-C5A9-43C1-BF94-912021C01597}" type="datetime1">
              <a:rPr lang="en-US"/>
              <a:t>07/31/26</a:t>
            </a:fld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520" y="60948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 Narrow"/>
              </a:rPr>
              <a:t>Are muscles dense?</a:t>
            </a: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160020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es - Muscles make up about half of your body weigh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2971800"/>
            <a:ext cx="84582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</a:rPr>
              <a:t>If Jackie weighed 158 lbs, about how many pounds did her muscles weigh?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4114800"/>
            <a:ext cx="449568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55000"/>
              </a:lnSpc>
              <a:spcBef>
                <a:spcPts val="1874"/>
              </a:spcBef>
              <a:buClr>
                <a:srgbClr val="ffff00"/>
              </a:buClr>
              <a:buFont typeface="Times New Roman"/>
              <a:buAutoNum type="arabicPlain" startAt="15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2 = N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158 / 2 = 79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N = 79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>
            <a:hlinkClick r:id="rId1"/>
          </p:cNvPr>
          <p:cNvPicPr/>
          <p:nvPr/>
        </p:nvPicPr>
        <p:blipFill>
          <a:blip r:embed="rId2"/>
          <a:srcRect l="28571" t="28808" r="28571" b="28453"/>
          <a:stretch/>
        </p:blipFill>
        <p:spPr>
          <a:xfrm>
            <a:off x="3809880" y="4114800"/>
            <a:ext cx="304920" cy="252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828800" y="5638680"/>
            <a:ext cx="541008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Jackie’s muscles weighed abou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79 pound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DDD9-7DAA-4E56-B3B8-020D4BE2F63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8B90B73-34CA-4534-9622-34DBA61D10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6323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9966"/>
                </a:solidFill>
                <a:latin typeface="Arial Narrow"/>
              </a:rPr>
              <a:t>How do muscles</a:t>
            </a:r>
            <a:br>
              <a:rPr sz="5800"/>
            </a:br>
            <a:r>
              <a:rPr b="1" lang="en-US" sz="5800" spc="-1" strike="noStrike">
                <a:solidFill>
                  <a:srgbClr val="ff9966"/>
                </a:solidFill>
                <a:latin typeface="Arial Narrow"/>
              </a:rPr>
              <a:t> move our bones?</a:t>
            </a:r>
            <a:endParaRPr b="1" lang="en-US" sz="5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8288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9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66ff"/>
                </a:solidFill>
                <a:latin typeface="Arial"/>
              </a:rPr>
              <a:t>Do muscles pull or push our bon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2666880"/>
            <a:ext cx="868680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812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cc33"/>
                </a:solidFill>
                <a:latin typeface="Times New Roman"/>
              </a:rPr>
              <a:t>Muscles pull in order to make our bones move.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812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cc33"/>
                </a:solidFill>
                <a:latin typeface="Times New Roman"/>
              </a:rPr>
              <a:t>Our muscles usually work in pairs.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cc33"/>
                </a:solidFill>
                <a:latin typeface="Times New Roman"/>
              </a:rPr>
              <a:t>One muscle contracts (pulls) while     the opposite muscle relaxes</a:t>
            </a:r>
            <a:r>
              <a:rPr b="0" lang="en-US" sz="40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4084-C841-41EA-8EA6-94FA5D841B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9FB92A9-CF3E-422C-8CC2-738AD8A880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rcRect l="26565" t="17124" r="30" b="66"/>
          <a:stretch/>
        </p:blipFill>
        <p:spPr>
          <a:xfrm>
            <a:off x="4419720" y="2057400"/>
            <a:ext cx="3579840" cy="40384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ffffcc"/>
                </a:solidFill>
                <a:latin typeface="Arial Narrow"/>
              </a:rPr>
              <a:t>When your arm is straight:</a:t>
            </a:r>
            <a:endParaRPr b="1" lang="en-US" sz="55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2133720"/>
            <a:ext cx="350496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Your bicep is relaxed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Your Tricep is contracted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3581280"/>
            <a:ext cx="4572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3200400"/>
            <a:ext cx="2286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284A-2B4E-47FB-A1D8-7B99A92AE5C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2292B87-361C-4DA1-9593-E8A061A35C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399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cc"/>
                </a:solidFill>
                <a:latin typeface="Arial Narrow"/>
              </a:rPr>
              <a:t>When you arm is bent:</a:t>
            </a:r>
            <a:endParaRPr b="1" lang="en-US" sz="55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18748" r="25000" b="27524"/>
          <a:stretch/>
        </p:blipFill>
        <p:spPr>
          <a:xfrm>
            <a:off x="4114800" y="2209680"/>
            <a:ext cx="4191120" cy="35798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62120" y="2133720"/>
            <a:ext cx="350496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Your bicep is contracted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Your tricep is relaxed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3581280"/>
            <a:ext cx="45720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3886200"/>
            <a:ext cx="22860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6377-E43F-4A46-952A-A691A49F519D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A640E93-8F24-47D6-BA7D-133819D5D9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3 Types of muscles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121932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here are three different types of muscle in our body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3200400"/>
            <a:ext cx="4419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keletal musc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mooth musc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diac musc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949-D5E0-45B6-A655-4BA8012AF4CD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5CA90-187C-4C9F-A125-E3FB33F815AF}" type="datetime1">
              <a:rPr lang="en-US"/>
              <a:t>07/31/26</a:t>
            </a:fld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The human  body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"/>
          <p:cNvSpPr/>
          <p:nvPr/>
        </p:nvSpPr>
        <p:spPr>
          <a:xfrm>
            <a:off x="1440" y="124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685800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D73-F4DC-4145-A999-F8F13EAD08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B2E55-50F9-4EA0-906B-0B77D7461369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Skeletal muscl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981080"/>
            <a:ext cx="563904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Are voluntary muscles that move bones.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1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Are called striated because they look striped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1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Are attached to tendons, which are attached to bones.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19610" t="21878" r="34219" b="-3115"/>
          <a:stretch/>
        </p:blipFill>
        <p:spPr>
          <a:xfrm>
            <a:off x="6324480" y="1752480"/>
            <a:ext cx="198144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3599-16A6-44AC-A915-4B645925FA0D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D88A88C-6474-4E96-8A89-F169645032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57040" y="685800"/>
            <a:ext cx="53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Skeletal Muscle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70572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DD4C-4FAE-468D-92B9-10613FE63ACF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091F1F9-4C42-46ED-ABC7-B75766B507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95120" y="456840"/>
            <a:ext cx="3429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Tendon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837720" y="18288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ndons are tough cords that attach muscles to bone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3657600" cy="3373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Tendons"/>
          <p:cNvPicPr/>
          <p:nvPr/>
        </p:nvPicPr>
        <p:blipFill>
          <a:blip r:embed="rId2"/>
          <a:stretch/>
        </p:blipFill>
        <p:spPr>
          <a:xfrm>
            <a:off x="990720" y="3733920"/>
            <a:ext cx="3124080" cy="237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AAE8-FFE2-424B-81C6-4CF4CF946A8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D60CC44-F666-47B2-89FB-5EF740763F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Smooth Muscl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981080"/>
            <a:ext cx="640080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874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050"/>
                </a:solidFill>
                <a:latin typeface="Times New Roman"/>
              </a:rPr>
              <a:t>Are involuntary muscles that make up the    blood vessels, stomach, intestines, and other group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874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5050"/>
                </a:solidFill>
                <a:latin typeface="Times New Roman"/>
              </a:rPr>
              <a:t>We can not control our smooth musc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874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050"/>
                </a:solidFill>
                <a:latin typeface="Times New Roman"/>
              </a:rPr>
              <a:t>What are some example of when our smooth muscles are used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5410080"/>
            <a:ext cx="5105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o digest food, pump blood,vomit, control bladder, and give bi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58000" y="1828800"/>
            <a:ext cx="18097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F947-99C2-424F-A540-FBC11EC43CC9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ED19A51-A8A3-40A7-B431-56DAAE61AB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80720" y="76212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Smooth Muscle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828800" y="209556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322C-663B-4C5A-8FD0-EDCA0A9395C7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70A78E6-E0F6-43DA-9B7D-0C08330682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ccff"/>
                </a:solidFill>
                <a:latin typeface="Arial Narrow"/>
              </a:rPr>
              <a:t>Cardiac Muscle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1676520"/>
            <a:ext cx="586728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ff00"/>
                </a:solidFill>
                <a:latin typeface="Times New Roman"/>
              </a:rPr>
              <a:t>A special kind of involuntary, striated (striped) muscle that makes up the heart.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188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ff00"/>
                </a:solidFill>
                <a:latin typeface="Times New Roman"/>
              </a:rPr>
              <a:t>The muscles in the heart contract in order to pump the blood through your body.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ff00"/>
                </a:solidFill>
                <a:latin typeface="Times New Roman"/>
              </a:rPr>
              <a:t>If your muscle stops pumping the blood, you have a heart attack.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182520" y="-9478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221" name="DefaultOcx" descr=""/>
          <p:cNvPicPr/>
          <p:nvPr/>
        </p:nvPicPr>
        <p:blipFill>
          <a:blip r:embed="rId2"/>
          <a:stretch/>
        </p:blipFill>
        <p:spPr>
          <a:xfrm>
            <a:off x="-4653000" y="-4295880"/>
            <a:ext cx="2063880" cy="12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2" name="HTMLSelect1" descr=""/>
          <p:cNvPicPr/>
          <p:nvPr/>
        </p:nvPicPr>
        <p:blipFill>
          <a:blip r:embed="rId3"/>
          <a:stretch/>
        </p:blipFill>
        <p:spPr>
          <a:xfrm>
            <a:off x="-4643280" y="-4295880"/>
            <a:ext cx="2152440" cy="12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3" name="HTMLSelect2" descr=""/>
          <p:cNvPicPr/>
          <p:nvPr/>
        </p:nvPicPr>
        <p:blipFill>
          <a:blip r:embed="rId4"/>
          <a:stretch/>
        </p:blipFill>
        <p:spPr>
          <a:xfrm>
            <a:off x="-4643280" y="-4295880"/>
            <a:ext cx="2241360" cy="12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-4471920" y="-4245120"/>
            <a:ext cx="92160" cy="92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-4560840" y="-37879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-4505400" y="-354348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-4505400" y="-309888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-4464000" y="-2838600"/>
            <a:ext cx="114120" cy="206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-4464000" y="-23814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1"/>
          <a:stretch/>
        </p:blipFill>
        <p:spPr>
          <a:xfrm>
            <a:off x="-4505400" y="-173988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2"/>
          <a:stretch/>
        </p:blipFill>
        <p:spPr>
          <a:xfrm>
            <a:off x="-4464000" y="-12193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3"/>
          <a:stretch/>
        </p:blipFill>
        <p:spPr>
          <a:xfrm>
            <a:off x="-4505400" y="-5778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4"/>
          <a:stretch/>
        </p:blipFill>
        <p:spPr>
          <a:xfrm>
            <a:off x="-4505400" y="-133200"/>
            <a:ext cx="11160" cy="10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5"/>
          <a:stretch/>
        </p:blipFill>
        <p:spPr>
          <a:xfrm>
            <a:off x="-4464000" y="38736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6"/>
          <a:stretch/>
        </p:blipFill>
        <p:spPr>
          <a:xfrm>
            <a:off x="-4505400" y="1028880"/>
            <a:ext cx="11160" cy="10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7"/>
          <a:stretch/>
        </p:blipFill>
        <p:spPr>
          <a:xfrm>
            <a:off x="-4505400" y="14731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8"/>
          <a:stretch/>
        </p:blipFill>
        <p:spPr>
          <a:xfrm>
            <a:off x="-4505400" y="19177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9"/>
          <a:stretch/>
        </p:blipFill>
        <p:spPr>
          <a:xfrm>
            <a:off x="-4464000" y="243828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0"/>
          <a:stretch/>
        </p:blipFill>
        <p:spPr>
          <a:xfrm>
            <a:off x="-4505400" y="30798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1"/>
          <a:stretch/>
        </p:blipFill>
        <p:spPr>
          <a:xfrm>
            <a:off x="-4505400" y="3524400"/>
            <a:ext cx="11160" cy="108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2"/>
          <a:stretch/>
        </p:blipFill>
        <p:spPr>
          <a:xfrm>
            <a:off x="-4505400" y="396864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3"/>
          <a:stretch/>
        </p:blipFill>
        <p:spPr>
          <a:xfrm>
            <a:off x="-4505400" y="441324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4"/>
          <a:stretch/>
        </p:blipFill>
        <p:spPr>
          <a:xfrm>
            <a:off x="-4464000" y="49338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5"/>
          <a:stretch/>
        </p:blipFill>
        <p:spPr>
          <a:xfrm>
            <a:off x="-4505400" y="55753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6"/>
          <a:stretch/>
        </p:blipFill>
        <p:spPr>
          <a:xfrm>
            <a:off x="-4505400" y="60199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7"/>
          <a:stretch/>
        </p:blipFill>
        <p:spPr>
          <a:xfrm>
            <a:off x="-4505400" y="646416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8"/>
          <a:stretch/>
        </p:blipFill>
        <p:spPr>
          <a:xfrm>
            <a:off x="-4505400" y="690876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9"/>
          <a:stretch/>
        </p:blipFill>
        <p:spPr>
          <a:xfrm>
            <a:off x="-4505400" y="735336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0"/>
          <a:stretch/>
        </p:blipFill>
        <p:spPr>
          <a:xfrm>
            <a:off x="-4505400" y="7797960"/>
            <a:ext cx="11160" cy="108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1"/>
          <a:stretch/>
        </p:blipFill>
        <p:spPr>
          <a:xfrm>
            <a:off x="-4505400" y="82422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2"/>
          <a:stretch/>
        </p:blipFill>
        <p:spPr>
          <a:xfrm>
            <a:off x="-4505400" y="86868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3"/>
          <a:stretch/>
        </p:blipFill>
        <p:spPr>
          <a:xfrm>
            <a:off x="-4505400" y="91314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4"/>
          <a:stretch/>
        </p:blipFill>
        <p:spPr>
          <a:xfrm>
            <a:off x="-4505400" y="957564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5"/>
          <a:stretch/>
        </p:blipFill>
        <p:spPr>
          <a:xfrm>
            <a:off x="-4505400" y="1002024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6"/>
          <a:stretch/>
        </p:blipFill>
        <p:spPr>
          <a:xfrm>
            <a:off x="-4464000" y="10280520"/>
            <a:ext cx="114120" cy="103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7"/>
          <a:stretch/>
        </p:blipFill>
        <p:spPr>
          <a:xfrm>
            <a:off x="-4471920" y="10737720"/>
            <a:ext cx="2057400" cy="111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8"/>
          <a:stretch/>
        </p:blipFill>
        <p:spPr>
          <a:xfrm>
            <a:off x="-4471920" y="-37879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9"/>
          <a:stretch/>
        </p:blipFill>
        <p:spPr>
          <a:xfrm>
            <a:off x="-4471920" y="-33307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0"/>
          <a:stretch/>
        </p:blipFill>
        <p:spPr>
          <a:xfrm>
            <a:off x="-4471920" y="-2612880"/>
            <a:ext cx="11160" cy="10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1"/>
          <a:stretch/>
        </p:blipFill>
        <p:spPr>
          <a:xfrm>
            <a:off x="-4471920" y="-2155680"/>
            <a:ext cx="11160" cy="10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2"/>
          <a:stretch/>
        </p:blipFill>
        <p:spPr>
          <a:xfrm>
            <a:off x="-4471920" y="-14382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3"/>
          <a:stretch/>
        </p:blipFill>
        <p:spPr>
          <a:xfrm>
            <a:off x="-4471920" y="-9810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4"/>
          <a:stretch/>
        </p:blipFill>
        <p:spPr>
          <a:xfrm>
            <a:off x="-4471920" y="-263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5"/>
          <a:stretch/>
        </p:blipFill>
        <p:spPr>
          <a:xfrm>
            <a:off x="-4471920" y="19368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6"/>
          <a:stretch/>
        </p:blipFill>
        <p:spPr>
          <a:xfrm>
            <a:off x="-4454640" y="66024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7"/>
          <a:stretch/>
        </p:blipFill>
        <p:spPr>
          <a:xfrm>
            <a:off x="-4495680" y="1127160"/>
            <a:ext cx="102960" cy="1141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8"/>
          <a:stretch/>
        </p:blipFill>
        <p:spPr>
          <a:xfrm>
            <a:off x="4575240" y="3390840"/>
            <a:ext cx="92160" cy="111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9"/>
          <a:stretch/>
        </p:blipFill>
        <p:spPr>
          <a:xfrm>
            <a:off x="4808520" y="-37879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0"/>
          <a:srcRect l="0" t="0" r="71878" b="14580"/>
          <a:stretch/>
        </p:blipFill>
        <p:spPr>
          <a:xfrm>
            <a:off x="6781680" y="1828800"/>
            <a:ext cx="19065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E7F0-6BE7-4B47-8A24-977C1A4E6850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51C8C66-AF2F-4DBC-A677-8DAF85C119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563868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ardiac Muscle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510080" cy="47736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rcRect l="14019" t="13995" r="18793" b="18815"/>
          <a:stretch/>
        </p:blipFill>
        <p:spPr>
          <a:xfrm>
            <a:off x="5029200" y="152388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F15A-1C5B-4DB6-B753-602E7A17F60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29B22CC-D07B-43E1-B59D-973161715E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2320" y="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3 types of muscl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8484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04920" y="10666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moo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rdia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kelet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363-1780-41E6-8795-F7D82D6C1BE1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760E1-5580-4F00-AFD4-4F9D5992FA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Arial Narrow"/>
              </a:rPr>
              <a:t>How many times a minute do you think your heart beats?</a:t>
            </a:r>
            <a:br>
              <a:rPr sz="5000"/>
            </a:br>
            <a:endParaRPr b="1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80880" y="5257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905120" y="26668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he cardiac muscles in your heart cause it to beat between 70 and 80 times per minut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DA35-5902-4E0C-9BBE-3701E3AD0614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CE5AC11-F415-4B38-9B06-91A739B2BD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Arial Narrow"/>
              </a:rPr>
              <a:t>What happens when we do not use our muscles?</a:t>
            </a:r>
            <a:endParaRPr b="1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0" name=""/>
          <p:cNvSpPr/>
          <p:nvPr/>
        </p:nvSpPr>
        <p:spPr>
          <a:xfrm>
            <a:off x="1905120" y="205740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Our muscles get smaller, which makes them wea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3886200"/>
            <a:ext cx="5867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3399"/>
                </a:solidFill>
                <a:latin typeface="Times New Roman"/>
              </a:rPr>
              <a:t>Can you think of some examples of when this may happen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4EED-FE08-48BE-B2B7-B4889AD694C6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1C652-7B90-4F92-9B1F-0B189B47A68B}" type="datetime1">
              <a:rPr lang="en-US"/>
              <a:t>07/31/26</a:t>
            </a:fld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685800"/>
            <a:ext cx="754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Did anyone see the Jets play on Sunday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41911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efore you start any activity, what should you do first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819520"/>
            <a:ext cx="7543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Did anyone have a game this weekend that they played in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600200"/>
            <a:ext cx="7162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Does anyone go to dance classes or karate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D634-AE00-4AD9-9E60-F5F9C3F4A5A6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687CDDC-DA14-4109-A2BC-AC783E4656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94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53352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is very important for us to take very good care of our bodies. We need to eat healthy foods and exercise our muscles regularly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0512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209680" y="3124080"/>
          <a:ext cx="4419720" cy="32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124080"/>
                    <a:ext cx="4419720" cy="32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9DC-7220-4AD0-B105-F2D94379B7BD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78B01-41DE-4B57-AB0F-FA9AE0C6D4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34196" r="8647" b="0"/>
          <a:stretch/>
        </p:blipFill>
        <p:spPr>
          <a:xfrm>
            <a:off x="4648320" y="4267080"/>
            <a:ext cx="4343400" cy="2346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4240080" cy="2743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52280" y="45720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48320" y="3276720"/>
            <a:ext cx="4038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Storybook"/>
              </a:rPr>
              <a:t>STRETCH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105520" y="0"/>
            <a:ext cx="2857320" cy="320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CE43-C3C9-4CCB-9F6C-A98F73A01B16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B6AC8A8-400B-4D4A-9851-4899104B18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 Narrow"/>
              </a:rPr>
              <a:t>Why should we stretch?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1143000"/>
            <a:ext cx="129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3399"/>
                </a:solidFill>
                <a:latin typeface="Times New Roman"/>
              </a:rPr>
              <a:t>?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971800"/>
            <a:ext cx="12952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3352680"/>
            <a:ext cx="12952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3366ff"/>
                </a:solidFill>
                <a:latin typeface="Times New Roman"/>
              </a:rPr>
              <a:t>?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1600200"/>
            <a:ext cx="129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9900"/>
                </a:solidFill>
                <a:latin typeface="Times New Roman"/>
              </a:rPr>
              <a:t>?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914400"/>
            <a:ext cx="12952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2971800"/>
            <a:ext cx="12952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408A-DF87-4110-8100-C16B5B5B04D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4E281-A2D6-4084-ADA1-8E71603F75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at are some of the things that we use our muscles for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893960" y="30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752480"/>
            <a:ext cx="2286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l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l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ea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i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752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ge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ding bi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eez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ising your 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wi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125748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0" y="2743200"/>
            <a:ext cx="1752480" cy="10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AD8-55A9-444C-A25A-23AFE508661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303D8-0D9F-4369-B5B7-17D70424AFAE}" type="datetime1">
              <a:rPr lang="en-US"/>
              <a:t>07/31/26</a:t>
            </a:fld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Muscle Man"/>
          <p:cNvPicPr/>
          <p:nvPr/>
        </p:nvPicPr>
        <p:blipFill>
          <a:blip r:embed="rId1"/>
          <a:stretch/>
        </p:blipFill>
        <p:spPr>
          <a:xfrm>
            <a:off x="4495680" y="228600"/>
            <a:ext cx="4137120" cy="6400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800" y="609480"/>
            <a:ext cx="3200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out how many muscles do you think the human body ha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648320"/>
            <a:ext cx="3047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swer = 650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59D-B2A2-46A0-95A8-B91E0F21376D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8DBB3-E29F-4222-AB26-B85D9963563E}" type="datetime1">
              <a:rPr lang="en-US"/>
              <a:t>07/31/26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5392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1629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 Narrow"/>
              </a:rPr>
              <a:t>Where do we have muscles?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1337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have muscles all over our body!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352680" y="2819520"/>
            <a:ext cx="4876920" cy="1404360"/>
            <a:chOff x="3352680" y="2819520"/>
            <a:chExt cx="4876920" cy="1404360"/>
          </a:xfrm>
        </p:grpSpPr>
        <p:sp>
          <p:nvSpPr>
            <p:cNvPr id="121" name=""/>
            <p:cNvSpPr/>
            <p:nvPr/>
          </p:nvSpPr>
          <p:spPr>
            <a:xfrm>
              <a:off x="6858000" y="28195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Fac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52680" y="3124080"/>
              <a:ext cx="240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Tongu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4120" y="3581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Ey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71600" y="2819520"/>
            <a:ext cx="3581280" cy="2623680"/>
            <a:chOff x="1371600" y="2819520"/>
            <a:chExt cx="3581280" cy="2623680"/>
          </a:xfrm>
        </p:grpSpPr>
        <p:sp>
          <p:nvSpPr>
            <p:cNvPr id="125" name=""/>
            <p:cNvSpPr/>
            <p:nvPr/>
          </p:nvSpPr>
          <p:spPr>
            <a:xfrm>
              <a:off x="1371600" y="28195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Leg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81280" y="42670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rm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Hear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05120" y="3809880"/>
              <a:ext cx="171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Hand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352680" y="4419720"/>
            <a:ext cx="4648320" cy="1861560"/>
            <a:chOff x="3352680" y="4419720"/>
            <a:chExt cx="4648320" cy="1861560"/>
          </a:xfrm>
        </p:grpSpPr>
        <p:sp>
          <p:nvSpPr>
            <p:cNvPr id="130" name=""/>
            <p:cNvSpPr/>
            <p:nvPr/>
          </p:nvSpPr>
          <p:spPr>
            <a:xfrm>
              <a:off x="6629400" y="4419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Ear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86400" y="51055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Neck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5638680"/>
              <a:ext cx="26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Stomac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1AF0-BF3F-4705-81BB-8B3E4642D80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8ADFBF9-63DE-4CC3-8B23-ECBE11F058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cc"/>
                </a:solidFill>
                <a:latin typeface="Arial Narrow"/>
              </a:rPr>
              <a:t>How many muscles do you think are in our face and neck?</a:t>
            </a:r>
            <a:endParaRPr b="1" lang="en-US" sz="55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18819" t="-5550" r="-15100" b="7759"/>
          <a:stretch/>
        </p:blipFill>
        <p:spPr>
          <a:xfrm>
            <a:off x="304920" y="2362320"/>
            <a:ext cx="3886200" cy="4024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86200" y="205740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3399"/>
                </a:solidFill>
                <a:latin typeface="Times New Roman"/>
              </a:rPr>
              <a:t>Our face and neck contain about one-fourth of the muscles in our body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65640"/>
            <a:ext cx="41911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9900"/>
                </a:solidFill>
                <a:latin typeface="Times New Roman"/>
              </a:rPr>
              <a:t>That is about 162 muscles.</a:t>
            </a: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9FFC-BC93-402E-88DA-C2415E49713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0CB15-943E-4D02-ABCF-ABFA6ECF64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tsd webmaster</cp:lastModifiedBy>
  <cp:lastPrinted>2009-04-22T19:24:48Z</cp:lastPrinted>
  <dcterms:modified xsi:type="dcterms:W3CDTF">2009-10-13T03:08:42Z</dcterms:modified>
  <cp:revision>16</cp:revision>
  <dc:subject/>
  <dc:title>PowerPoint Presentation</dc:title>
</cp:coreProperties>
</file>